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690-39D9-4656-B9B7-A8E7F13A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44C-651B-45B2-8242-75CE7B99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90A-90EE-4258-BAA6-F2331F7F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59A-92F9-47FA-85E8-E7F59F44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56F-FCFC-42C8-B770-DE7C9A04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4AA-94F7-4B81-8664-2DA4A9E7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1C1-1575-4C0A-A5CD-7CD2795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FEA-8E07-4B08-AFFA-3B6A9B0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8B3-277A-4013-8181-242680B5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133-3A6A-43DC-886E-7701A91E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FA7-BF6D-448F-89AF-03C887BC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1AB-BADF-4F26-9481-0D2E45F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3476-767E-40FE-A206-290DFEBD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غفر ذنوب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جميعَ ذنوبِكِ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شفي أمراض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أمراضِكِ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1:08:37Z</dcterms:modified>
  <cp:revision>6</cp:revision>
  <dc:subject/>
  <dc:title>PowerPoint Presentation</dc:title>
</cp:coreProperties>
</file>